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589E-5BA0-40D1-A74E-69391DBEF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08AB-72B7-41FF-9BF6-50CFEF91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4D51-BB02-4521-9709-E683E9F9C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BC43-A67D-439C-BEBD-A11B570AF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14EB-5AF2-47AB-B2A2-BF3F26BC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15F3-08C8-4BB3-AE15-5F80DBE7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34B5-59AD-46EA-B549-2D7A501C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6A1A-2FF5-4849-8283-95AAB6C7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2059-781D-43C1-9106-CBA13380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A444-4E50-4898-8B2E-CAF2D0E3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823B-B2CE-4A03-8D4D-BED495AE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F8E8-2592-4FEE-966A-13849C02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DEA6-54C2-4F7D-B9A5-3CFCC6EEA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8000" y="115920"/>
            <a:ext cx="8785080" cy="667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Нека живей</a:t>
            </a: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радост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в</a:t>
            </a: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5400" spc="-1" strike="noStrike">
                <a:solidFill>
                  <a:srgbClr val="ffff00"/>
                </a:solidFill>
                <a:latin typeface="Comic Sans MS"/>
              </a:rPr>
              <a:t>наш’</a:t>
            </a: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т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сърц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                  </a:t>
            </a: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Пей 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                    </a:t>
            </a: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Христа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дай Му ти</a:t>
            </a: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слав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53272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939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Нека жив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радостта 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Comic Sans MS"/>
              </a:rPr>
              <a:t>наш’</a:t>
            </a: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т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сърц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завинаги любовт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на Хрис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да пълни света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Нека жив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радостта 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Comic Sans MS"/>
              </a:rPr>
              <a:t>наш’</a:t>
            </a: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т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сърц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завинаги любов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на Христ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да пълни света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115920"/>
            <a:ext cx="9144000" cy="667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Любовта М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къ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нас 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голяма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проля Си кръвта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и мирът,</a:t>
            </a: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който То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ни даря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е несравним в свет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3894120"/>
            <a:ext cx="914400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Благодарете за този да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Земята прогласете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че Исус е Ца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147600"/>
            <a:ext cx="9144000" cy="7032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8000" y="115920"/>
            <a:ext cx="8785080" cy="667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Нека живей</a:t>
            </a: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радост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в</a:t>
            </a: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5400" spc="-1" strike="noStrike">
                <a:solidFill>
                  <a:srgbClr val="ffff00"/>
                </a:solidFill>
                <a:latin typeface="Comic Sans MS"/>
              </a:rPr>
              <a:t>наш’</a:t>
            </a: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т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сърц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Пей 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Христа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дай Му ти</a:t>
            </a: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слав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-12600"/>
            <a:ext cx="9325080" cy="6897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Нека живей  радост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в </a:t>
            </a:r>
            <a:r>
              <a:rPr b="1" lang="ru-RU" sz="5400" spc="-1" strike="noStrike">
                <a:solidFill>
                  <a:srgbClr val="ffff00"/>
                </a:solidFill>
                <a:latin typeface="Comic Sans MS"/>
              </a:rPr>
              <a:t>наш’</a:t>
            </a: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те  сърц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завинаг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любов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на Хрис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да пълн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          </a:t>
            </a: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света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4920" y="17640"/>
          <a:ext cx="9144000" cy="6867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7640"/>
                    <a:ext cx="9144000" cy="68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184720" y="1341360"/>
            <a:ext cx="2340000" cy="4000680"/>
          </a:xfrm>
          <a:prstGeom prst="rect">
            <a:avLst/>
          </a:prstGeom>
          <a:ln w="76320">
            <a:solidFill>
              <a:srgbClr val="000066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sp>
        <p:nvSpPr>
          <p:cNvPr id="63" name=""/>
          <p:cNvSpPr/>
          <p:nvPr/>
        </p:nvSpPr>
        <p:spPr>
          <a:xfrm>
            <a:off x="34920" y="187200"/>
            <a:ext cx="9036000" cy="667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ru-RU" sz="5400" spc="-1" strike="noStrike">
                <a:solidFill>
                  <a:srgbClr val="ffff00"/>
                </a:solidFill>
                <a:latin typeface="Comic Sans MS"/>
              </a:rPr>
              <a:t>И когато Духът М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ru-RU" sz="5400" spc="-1" strike="noStrike">
                <a:solidFill>
                  <a:srgbClr val="ffff00"/>
                </a:solidFill>
                <a:latin typeface="Comic Sans MS"/>
              </a:rPr>
              <a:t>живее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ru-RU" sz="5400" spc="-1" strike="noStrike">
                <a:solidFill>
                  <a:srgbClr val="ffff00"/>
                </a:solidFill>
                <a:latin typeface="Comic Sans MS"/>
              </a:rPr>
              <a:t>дълбок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5400" spc="-1" strike="noStrike">
                <a:solidFill>
                  <a:srgbClr val="ffff00"/>
                </a:solidFill>
                <a:latin typeface="Comic Sans MS"/>
              </a:rPr>
              <a:t>във нас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ru-RU" sz="5400" spc="-1" strike="noStrike">
                <a:solidFill>
                  <a:srgbClr val="ffff00"/>
                </a:solidFill>
                <a:latin typeface="Comic Sans MS"/>
              </a:rPr>
              <a:t>слабост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5400" spc="-1" strike="noStrike">
                <a:solidFill>
                  <a:srgbClr val="ffff00"/>
                </a:solidFill>
                <a:latin typeface="Comic Sans MS"/>
              </a:rPr>
              <a:t>си ще преодолеем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ч</a:t>
            </a:r>
            <a:r>
              <a:rPr b="1" lang="ru-RU" sz="5400" spc="-1" strike="noStrike">
                <a:solidFill>
                  <a:srgbClr val="ffff00"/>
                </a:solidFill>
                <a:latin typeface="Comic Sans MS"/>
              </a:rPr>
              <a:t>рез</a:t>
            </a: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5400" spc="-1" strike="noStrike">
                <a:solidFill>
                  <a:srgbClr val="ffff00"/>
                </a:solidFill>
                <a:latin typeface="Comic Sans MS"/>
              </a:rPr>
              <a:t>мощната Му власт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44280"/>
            <a:ext cx="914400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Благодарет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              </a:t>
            </a: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за този да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Земята прогласете, че Исус е Ца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4920" y="71280"/>
            <a:ext cx="9109080" cy="667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Нека живей</a:t>
            </a: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радостта в</a:t>
            </a: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5400" spc="-1" strike="noStrike">
                <a:solidFill>
                  <a:srgbClr val="ffff00"/>
                </a:solidFill>
                <a:latin typeface="Comic Sans MS"/>
              </a:rPr>
              <a:t>наш’</a:t>
            </a: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т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сърц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                   </a:t>
            </a: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Пей 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                     </a:t>
            </a: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Христа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дай Му ти</a:t>
            </a: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bg-BG" sz="5400" spc="-1" strike="noStrike">
                <a:solidFill>
                  <a:srgbClr val="ffff00"/>
                </a:solidFill>
                <a:latin typeface="Comic Sans MS"/>
              </a:rPr>
              <a:t>слав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06:38:37Z</dcterms:created>
  <dc:creator>TrifonTrifonow</dc:creator>
  <dc:description/>
  <dc:language>en-US</dc:language>
  <cp:lastModifiedBy>TrifonTrifonow</cp:lastModifiedBy>
  <dcterms:modified xsi:type="dcterms:W3CDTF">2005-12-15T06:39:06Z</dcterms:modified>
  <cp:revision>1</cp:revision>
  <dc:subject/>
  <dc:title>Slide 1</dc:title>
</cp:coreProperties>
</file>